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6782D-EA48-4D1A-8ED7-7793962E4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A514A-8C2C-4017-945F-50FB67183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AF76-45BD-4E9C-AFF1-2E3F6442C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76FD4-FEFE-40A7-AC4A-470681A3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28CC5-624C-4283-95B5-44095276DE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16854-1A7E-40F2-8D58-98EE0921C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F3241-3C5C-4B37-A14F-514530D24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5280E-EE41-476B-A047-D76ED9BE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A6AE5-DEE7-4AF1-B0D8-A9E836D96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43F3E-BB0F-420A-ABA3-A7BB4D857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6994C-ADF7-4DDB-B55A-E2FE8C4A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44A5-67F3-4436-8BC5-739863C1F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EB2F3-2B9A-43D3-BEA8-DBA47F38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F78C-B6EA-4A79-8914-203351613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03876-3199-4F1D-9A82-AACDA80CD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4A8C7-6AF8-4A81-91DA-08A9C021A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FCC0E-9471-4075-8860-C783BC0C4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929BC4A-DD40-4ADA-8752-54C26FEC9A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92753F-7450-4867-83A9-FC507242A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9457FD-E6A9-449B-AC84-1743C8E47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F894720-57C9-434E-B5BE-E8442F33B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461D341-E97E-4D05-A860-279816CB7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D3F02-0755-4AD2-8FA3-61A9BB85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1D08CB-5201-47BD-9CD1-75ED5933C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9CFF25-D00C-470E-9E31-3C2118912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250A05-267C-488D-B28C-FA3FDE9AA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EE3D77E-FEA5-46AB-B4B1-7DEDADDC7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9F250CB-9925-4717-AE9C-7B5E9C45B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D8E031-EE5C-4A87-8F34-E46944BCA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5AE5BF-F398-43BD-A7B3-87B5643460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AC445CC-883A-4444-B68E-6EA110DC7C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6B5EAE4-BE17-4313-AFBC-C9148107D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1825356-3595-4AA3-91DA-52C0675D6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5AA19-06DE-429D-BA8B-738836FE5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665F60-1163-49A1-B104-3D7D3831CF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560AED6-61D0-415B-930B-0D558FE6F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302BF3-CD0A-4482-90BE-D1AC8D5D5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00EEF3-D808-44F7-87DF-84BDF1D8B7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95489A1-F79A-4A97-81F3-28CEF43F6E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DD1001-19E7-46D5-B8AE-0A6BF1DEC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FC5FF7-0C7B-4785-9191-A614D1C53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0052076-3D76-40EB-AED2-11E280101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4A4CAD5-28EC-49A6-AC24-B2C4EAE683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4DEF042-6F5C-492F-B766-025F46354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BD07-03F2-4278-B5C4-8CCC9A61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5EDC4E-2256-492F-B2A2-77E564CC9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4BC9031-B613-4F7F-B8F2-7BE636B62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214634-63D6-4490-9A45-11277311A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6E2E94-823A-4465-A29B-B99B45F33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E1B24A-924F-4976-A31D-BD6D1F9A2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992D0A-A091-408E-BAD1-ABF59226B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356B6A-C82E-4A5D-AE50-7CE8B9680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F5961C-2721-4BF5-B82B-FC3E9995D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3CF8FC-C648-40DE-B35C-1A42A266CC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7B517F5-717C-4E52-9568-FDAEF230E5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AE66-2DC5-48E4-9E97-FDF78F48C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B4E21E1-9297-4A80-968C-84528E5772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8C98B0-468A-4A81-8465-E122B3BCDA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64B897-19BE-4316-89A3-997231072C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5B4F8-6EB2-488A-8C9A-7EC7961D6F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16B6B3-D65B-4E9D-8D95-80B8040B3E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14078-6B80-4FFE-9B86-08D53CD30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633D8E-431B-4656-8EF6-8B9D939470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41D2F-2DA3-4595-84EF-FE4A9329B7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A9F45-6250-4145-82C1-AD64BD255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F12CF-826B-49E4-B675-D2DE2C0E6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8CD1E-D03E-4E9A-AA9A-2F90D84DF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3B76C-05D5-47FC-8109-E72744771C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6D12C8-8416-4514-9A5B-80C176640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8837BB-19F2-45BB-9C03-6E85B3EDB7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C84EFC0-CCFF-4FE7-BD67-ED48A2B4B1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A2AAA6-55BB-48E5-81B0-0DEC61B258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5137AC-FB43-4E53-959A-DBDAA8D1A6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72AF64E-E195-4971-A915-51084D4B7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7CE9855-1ECF-43AF-856D-F050A0A58A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A49FEF-4AFB-48E1-B230-8CAE84D08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17936F-CF90-42DB-BE4A-00225B314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9028-6294-4493-8071-E683987D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4E31A57-B6A4-4BE6-9076-965768322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310B436-3916-4A13-AB6A-E5C61BAFB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359A03-0262-475F-93AE-87DE287FF3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100EAA3-F7D9-4D15-9457-C9E69C70EC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BF5AEB1-D21D-4F4B-A7AF-C6E47ABA00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21DA7F-AB82-475E-BADB-4B69C246A4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DFBB42-6201-4CC6-9CFB-E6F591DDA9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77B12-53BD-4B0A-876F-D5FB81F426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7ACE00-73E3-4576-9BAC-DF391DEE0C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C7CF6-637C-41C4-B8AC-39A9AA8D3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EB76-63BD-448A-B486-476EF2111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A48E50-62D5-423D-9F2F-25DCBF47F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13A12-8E68-43B5-87B8-57E6E255A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B2C073-FC0E-44F8-9701-07960E45D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5D6F2-227F-4A7D-AED9-6D66BDA1CF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CD937D-4E8C-4016-9714-FE86658CEC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D941B-4B36-438B-96FB-909653C5A1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386EEA-A3E8-44F2-9038-25B1A3D89FB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5919-CA70-45DD-8F2D-E41B06BB74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D130-4431-455C-BACF-4CE734298698}"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6B14-0C8E-4E73-806C-4C04B9AD348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D698-AC08-49AB-B3EE-8566B3F1A2D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188A-C74C-4D0E-9829-1868B400E0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7434-E16B-486B-8E46-AE970E5C651A}"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BB3C-19BA-4A6C-BF87-90733379F754}"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5C9F-A65C-4DF2-BF44-89BF29B910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xcotc.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SERVICE LEARNING PROJECT: EXCO</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Trent Brager</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LIS 7963</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5/10/12</a:t>
            </a:r>
            <a:endParaRPr b="0" lang="en-US" sz="1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t Review connections</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tivation needs to be internal or requires an instructor to create 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CO’s lack of community input on clas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 1 class per semester challenging the status quo, looking at societal injusti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ll, L. A. (2007). Theoretical foundations for social justice education. In M. Addams, L. A. Bell, &amp; P. Griffin (Eds.), </a:t>
            </a:r>
            <a:r>
              <a:rPr b="0" i="1" lang="en-US" sz="2000" spc="-1" strike="noStrike">
                <a:solidFill>
                  <a:srgbClr val="000000"/>
                </a:solidFill>
                <a:latin typeface="Tw Cen MT"/>
              </a:rPr>
              <a:t>Teaching for Diversity and Social Justice</a:t>
            </a:r>
            <a:r>
              <a:rPr b="0" lang="en-US" sz="2000" spc="-1" strike="noStrike">
                <a:solidFill>
                  <a:srgbClr val="000000"/>
                </a:solidFill>
                <a:latin typeface="Tw Cen MT"/>
              </a:rPr>
              <a:t>. New York: Routledg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ritz, J. (2008). Making the global information society good: A social justice perspective on the ethical dimensions of the global information society. </a:t>
            </a:r>
            <a:r>
              <a:rPr b="0" i="1" lang="en-US" sz="2000" spc="-1" strike="noStrike">
                <a:solidFill>
                  <a:srgbClr val="000000"/>
                </a:solidFill>
                <a:latin typeface="Tw Cen MT"/>
              </a:rPr>
              <a:t>Journal of the American Society for Information Science and Technology, 59</a:t>
            </a:r>
            <a:r>
              <a:rPr b="0" lang="en-US" sz="2000" spc="-1" strike="noStrike">
                <a:solidFill>
                  <a:srgbClr val="000000"/>
                </a:solidFill>
                <a:latin typeface="Tw Cen MT"/>
              </a:rPr>
              <a:t>(7), 1171-83.</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XCO (n.d.) </a:t>
            </a:r>
            <a:r>
              <a:rPr b="0" i="1" lang="en-US" sz="2000" spc="-1" strike="noStrike">
                <a:solidFill>
                  <a:srgbClr val="000000"/>
                </a:solidFill>
                <a:latin typeface="Tw Cen MT"/>
              </a:rPr>
              <a:t>Hey you! Want to help build EXCO- Experimental community education of the Twin Cities?</a:t>
            </a:r>
            <a:r>
              <a:rPr b="0" lang="en-US" sz="2000" spc="-1" strike="noStrike">
                <a:solidFill>
                  <a:srgbClr val="000000"/>
                </a:solidFill>
                <a:latin typeface="Tw Cen MT"/>
              </a:rPr>
              <a:t> [Brochu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ieglitz, O. (1999). Advocacy planning and the question of the self and other. </a:t>
            </a:r>
            <a:r>
              <a:rPr b="0" i="1" lang="en-US" sz="2000" spc="-1" strike="noStrike">
                <a:solidFill>
                  <a:srgbClr val="000000"/>
                </a:solidFill>
                <a:latin typeface="Tw Cen MT"/>
              </a:rPr>
              <a:t>Cultural Planning</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illiment, K. (2010). Working in the community: Moving beyond outreach [Web log post]. </a:t>
            </a:r>
            <a:r>
              <a:rPr b="0" i="1" lang="en-US" sz="2000" spc="-1" strike="noStrike">
                <a:solidFill>
                  <a:srgbClr val="000000"/>
                </a:solidFill>
                <a:latin typeface="Tw Cen MT"/>
              </a:rPr>
              <a:t>Social Justice Librarian Blog.</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illiment, K. (2011). It takes a community to create a library. </a:t>
            </a:r>
            <a:r>
              <a:rPr b="0" i="1" lang="en-US" sz="2000" spc="-1" strike="noStrike">
                <a:solidFill>
                  <a:srgbClr val="000000"/>
                </a:solidFill>
                <a:latin typeface="Tw Cen MT"/>
              </a:rPr>
              <a:t>Public Libraries Onlin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CO</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mental Community Education of the Twin Cities</a:t>
            </a:r>
            <a:endParaRPr b="0" lang="en-US" sz="2900" spc="-1" strike="noStrike">
              <a:solidFill>
                <a:srgbClr val="000000"/>
              </a:solidFill>
              <a:latin typeface="Tw Cen MT"/>
            </a:endParaRPr>
          </a:p>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mission statement: “…to become a sustainable, rooted, relevant, and radical, working class institution providing free education for the people…to model the type of education we want and can run ourselves, to build communities and movements, and to critique the injustices and exclusion of the present educational system” – EXCO brochure (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CO</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rvic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ding teaching space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nline registration for participants (</a:t>
            </a:r>
            <a:r>
              <a:rPr b="0" lang="en-US" sz="2600" spc="-1" strike="noStrike" u="sng">
                <a:solidFill>
                  <a:srgbClr val="f7b615"/>
                </a:solidFill>
                <a:uFillTx/>
                <a:latin typeface="Tw Cen MT"/>
                <a:hlinkClick r:id="rId1"/>
              </a:rPr>
              <a:t>excotc.org</a:t>
            </a:r>
            <a:r>
              <a:rPr b="0" lang="en-US" sz="2600" spc="-1" strike="noStrike">
                <a:solidFill>
                  <a:srgbClr val="000000"/>
                </a:solidFill>
                <a:latin typeface="Tw Cen MT"/>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imbursement of class fe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y Projec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readsheet of all clas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eting facilitators for feedbac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lling about teaching spa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yer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d Stuff</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ly nice peop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eting facilitators &amp; calling people – not so ba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exibil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d Stuff</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exibility – don’t know what to d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unica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on to class</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del of community outreach, getting input from community throughout the process (Williment, 2010; Williment 2011)</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t-based community development (Kretzmann &amp; McKnight, 1993)</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unity working together as partners (Stieglitz, 1999)</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on to clas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rth-South flow of information (Britz, 2008)</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CO a place to get social justice education, where else do people get this type of education? (Bell, 2007)</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t Review connection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ttle current literature on CE and almost none about its futur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wth in community education occurred with the civil rights move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s of learning</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n-formal – participant controlle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l – experiential</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7:27:04Z</dcterms:created>
  <dc:creator>ISD833</dc:creator>
  <dc:description/>
  <dc:language>en-US</dc:language>
  <cp:lastModifiedBy>ISD833</cp:lastModifiedBy>
  <dcterms:modified xsi:type="dcterms:W3CDTF">2012-05-08T18:05:24Z</dcterms:modified>
  <cp:revision>4</cp:revision>
  <dc:subject/>
  <dc:title>Service Learning Project: EXCO</dc:title>
</cp:coreProperties>
</file>